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11396"/>
        <c:axId val="17907051"/>
      </c:barChart>
      <c:catAx>
        <c:axId val="49211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7051"/>
        <c:crosses val="autoZero"/>
        <c:auto val="1"/>
        <c:lblAlgn val="ctr"/>
        <c:lblOffset val="100"/>
        <c:noMultiLvlLbl val="0"/>
      </c:catAx>
      <c:valAx>
        <c:axId val="17907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1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C81-57E8-4520-9070-0426AEE8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3DA-86A0-499C-93EF-A5DC1CD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6C3-18EC-45B4-8629-BF9922C2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50D-CC0F-4EEA-AD82-6AAD5162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65D-853F-44AF-B532-DA4D8AA3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431-1A88-4F77-A34A-46664F7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627-D611-42E4-A105-8BABBFCA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BD7-8607-46A7-98C9-08F7E9CC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D98-33D9-434C-A4AE-D14372F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D0D-04B6-463C-820E-32416E2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BEC-DF8B-43A2-98BE-53D2422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C41-58E3-49FF-BC54-6B12B80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5C52E-B1F2-46A3-928E-1A5694E219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